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AA3-E45A-43F2-9F5A-D13BD135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F88-3F4D-46F5-8EEF-584462E2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370-D54F-449C-829A-F305AFD0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3B5-8987-49E4-9D92-256804BB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B79-4CD0-4D16-A0B3-79629F1A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8FA-A97A-478D-91C3-5A78CE26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3DA-21E5-407F-AB8B-419F60A5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062-DEBC-4CE5-BF24-5628A21D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43B-7BD1-48D3-B693-8FAA3D53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A32-000C-41D8-9C86-C44CBC90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05E-5054-4A5C-B194-301E947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F87-E8BA-43D0-BD0D-5FB879B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C2CE-B42C-430A-8186-0012C1BBF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ow the Grinch Stole Christm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xmas-grinch-keep.wav" descr=""/>
          <p:cNvPicPr/>
          <p:nvPr/>
        </p:nvPicPr>
        <p:blipFill>
          <a:blip r:embed="rId2"/>
          <a:stretch/>
        </p:blipFill>
        <p:spPr>
          <a:xfrm>
            <a:off x="3352680" y="22860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64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lane DAB (or DAC, CB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rcRect l="-237" t="0" r="-22355" b="-19002"/>
          <a:stretch/>
        </p:blipFill>
        <p:spPr>
          <a:xfrm>
            <a:off x="2133720" y="1143000"/>
            <a:ext cx="6197400" cy="5486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133720" y="4267080"/>
            <a:ext cx="533160" cy="609840"/>
          </a:xfrm>
          <a:prstGeom prst="rect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133720" y="4267080"/>
            <a:ext cx="457200" cy="609840"/>
          </a:xfrm>
          <a:prstGeom prst="rect">
            <a:avLst/>
          </a:pr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√2 or 7.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676520" y="1523880"/>
            <a:ext cx="5562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1"/>
          <a:srcRect l="76251" t="60365" r="16252" b="29981"/>
          <a:stretch/>
        </p:blipFill>
        <p:spPr>
          <a:xfrm>
            <a:off x="4038480" y="21337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8√3)/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rcRect l="76251" t="28171" r="4376" b="60567"/>
          <a:stretch/>
        </p:blipFill>
        <p:spPr>
          <a:xfrm>
            <a:off x="2357280" y="1447920"/>
            <a:ext cx="5567400" cy="25146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1523880" y="4267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Q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ational Lampoon’s Christmas Va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ational lampoon.wav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62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4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905200" cy="5391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4608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ength of a diag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a square is 22√2 mm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perimeter of the squ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8m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rcRect l="76251" t="28171" r="4376" b="60567"/>
          <a:stretch/>
        </p:blipFill>
        <p:spPr>
          <a:xfrm>
            <a:off x="1676520" y="1600200"/>
            <a:ext cx="5567400" cy="25146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"/>
          <p:cNvSpPr/>
          <p:nvPr/>
        </p:nvSpPr>
        <p:spPr>
          <a:xfrm>
            <a:off x="1828800" y="4419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elf.wav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41197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3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1752480" y="1523880"/>
            <a:ext cx="5639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2476440" cy="3657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2"/>
          <a:stretch/>
        </p:blipFill>
        <p:spPr>
          <a:xfrm>
            <a:off x="1828800" y="838080"/>
            <a:ext cx="5475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ythag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-45-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-60-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me that Christmas mov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pproximately 245.4 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rcRect l="81253" t="39437" r="1875" b="42053"/>
          <a:stretch/>
        </p:blipFill>
        <p:spPr>
          <a:xfrm>
            <a:off x="1066680" y="1219320"/>
            <a:ext cx="4294440" cy="36576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5410080" y="17524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enter fielder is standing at point C, this is how far he is from Home P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altitude of an equilat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is 7.4 meter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perimeter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pproximately 26.63 me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Rudolph the Red Nosed Reinde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Santa - The storm won't subside by tonight. We'll have to cancel Christmas.wav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702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.3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4002" t="40668" r="63004" b="31332"/>
          <a:stretch/>
        </p:blipFill>
        <p:spPr>
          <a:xfrm>
            <a:off x="2362320" y="1447920"/>
            <a:ext cx="4910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5" descr=""/>
          <p:cNvPicPr/>
          <p:nvPr/>
        </p:nvPicPr>
        <p:blipFill>
          <a:blip r:embed="rId2"/>
          <a:srcRect l="56878" t="60365" r="30003" b="29175"/>
          <a:stretch/>
        </p:blipFill>
        <p:spPr>
          <a:xfrm>
            <a:off x="2133720" y="2209680"/>
            <a:ext cx="39621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rcRect l="53125" t="42658" r="32501" b="42053"/>
          <a:stretch/>
        </p:blipFill>
        <p:spPr>
          <a:xfrm>
            <a:off x="1447920" y="1523880"/>
            <a:ext cx="249084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4267080" y="160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erry Christmas Charlie Br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xmas-cb-card.wav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47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0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48765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√2 or 11.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5" descr=""/>
          <p:cNvPicPr/>
          <p:nvPr/>
        </p:nvPicPr>
        <p:blipFill>
          <a:blip r:embed="rId2"/>
          <a:srcRect l="36877" t="60365" r="56878" b="29981"/>
          <a:stretch/>
        </p:blipFill>
        <p:spPr>
          <a:xfrm>
            <a:off x="3276720" y="2057400"/>
            <a:ext cx="25905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√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rcRect l="53125" t="42658" r="32501" b="42053"/>
          <a:stretch/>
        </p:blipFill>
        <p:spPr>
          <a:xfrm>
            <a:off x="838080" y="1143000"/>
            <a:ext cx="295128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175248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BeasoA</cp:lastModifiedBy>
  <cp:lastPrinted>2001-01-31T16:21:13Z</cp:lastPrinted>
  <dcterms:modified xsi:type="dcterms:W3CDTF">2010-12-08T14:58:39Z</dcterms:modified>
  <cp:revision>9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